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969D-E31F-47A7-BE85-7FDD466A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9E0F-3DD7-4F6D-A240-2F7A2CE5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88F3-25E1-4141-AC79-E063E324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4174-50F8-4753-BD90-07FD7CED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98D3-F6F2-450B-B17B-0274A897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C6AB-B9CF-47E9-B99C-4CE11E31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10B4-1999-4840-88D6-22EDC52A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942B-F4DD-4A2F-B795-D0B9B3A8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70A9-1B6D-4332-9710-0CE3F376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2CCB-C540-466F-964B-DC9DE578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1891-4140-41D5-B9D9-EBA85D8E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00A6-8A0D-4327-A19D-BF144235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E9AF-1B68-49E4-803A-07DA03002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2007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ley 23/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effective and creative.  Good work.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se were not as detailed as I would have liked.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ttle dry considering how great your actual campaign was.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ity / Im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Good!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more preparation…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7:11:55Z</dcterms:created>
  <dc:creator>nbdoe</dc:creator>
  <dc:description/>
  <dc:language>en-US</dc:language>
  <cp:lastModifiedBy>nbdoe</cp:lastModifiedBy>
  <dcterms:modified xsi:type="dcterms:W3CDTF">2007-05-09T17:14:43Z</dcterms:modified>
  <cp:revision>3</cp:revision>
  <dc:subject/>
  <dc:title>Election 2007 </dc:title>
</cp:coreProperties>
</file>